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66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11160" y="765000"/>
            <a:ext cx="4903920" cy="367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90000" tIns="0" bIns="46800" anchor="ctr">
            <a:noAutofit/>
          </a:bodyPr>
          <a:p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hdr"/>
          </p:nvPr>
        </p:nvSpPr>
        <p:spPr>
          <a:xfrm>
            <a:off x="-360" y="0"/>
            <a:ext cx="290196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indent="0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1"/>
          </p:nvPr>
        </p:nvSpPr>
        <p:spPr>
          <a:xfrm>
            <a:off x="3738600" y="0"/>
            <a:ext cx="290520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lstStyle>
            <a:lvl1pPr indent="0" algn="r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840" y="4673160"/>
            <a:ext cx="4888080" cy="44420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9343800"/>
            <a:ext cx="290196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lstStyle>
            <a:lvl1pPr indent="0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738600" y="9343800"/>
            <a:ext cx="290520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lstStyle>
            <a:lvl1pPr indent="0" algn="r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E9E8877-1062-47E1-B99F-4659F840D4C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3738600" y="9343800"/>
            <a:ext cx="290520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074CF6F-6A8F-4FEC-937E-9FBD8DFDA11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-360" y="9343800"/>
            <a:ext cx="290196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0"/>
            <a:ext cx="290196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738600" y="0"/>
            <a:ext cx="290520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74800" y="74628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365040" y="4540320"/>
            <a:ext cx="592776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3738600" y="9343800"/>
            <a:ext cx="290520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9CB31FE-1335-44B6-A17B-0A94F38C5CE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-360" y="9343800"/>
            <a:ext cx="290196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0"/>
            <a:ext cx="290196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738600" y="0"/>
            <a:ext cx="290520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874800" y="74628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65040" y="4540320"/>
            <a:ext cx="592776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3738600" y="9343800"/>
            <a:ext cx="290520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179D938-72AF-472D-9F49-75C2DC4F787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-360" y="9343800"/>
            <a:ext cx="290196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0"/>
            <a:ext cx="290196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738600" y="0"/>
            <a:ext cx="290520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874800" y="74628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365040" y="4540320"/>
            <a:ext cx="592776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3738600" y="9343800"/>
            <a:ext cx="290520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AB8514C-3DC4-4ADA-BB12-AE3575B1B15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-360" y="9343800"/>
            <a:ext cx="290196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0"/>
            <a:ext cx="290196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738600" y="0"/>
            <a:ext cx="290520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874800" y="74628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365040" y="4540320"/>
            <a:ext cx="592776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738600" y="9343800"/>
            <a:ext cx="290520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5511BDF-A9E1-41C0-87C3-5FCE33FCA9B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-360" y="9343800"/>
            <a:ext cx="290196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0"/>
            <a:ext cx="290196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738600" y="0"/>
            <a:ext cx="290520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874800" y="74628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365040" y="4540320"/>
            <a:ext cx="592776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9907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828880" y="2693880"/>
            <a:ext cx="41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96840" y="1996920"/>
            <a:ext cx="899460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13040" y="3038400"/>
            <a:ext cx="14893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553080"/>
            <a:ext cx="7391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roduct Status Report Neo, October, 24th,  2003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29C8DF0F-C196-4C40-87E4-FCCE481B0F9F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722360" y="6519960"/>
            <a:ext cx="11196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dd3a07"/>
                </a:solidFill>
                <a:latin typeface="Arial"/>
              </a:rPr>
              <a:t>Confid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2080">
              <a:lnSpc>
                <a:spcPts val="22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3" marL="1676520" indent="-239760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–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4" marL="2155680" indent="-239400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»"/>
              <a:tabLst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5" marL="2155680" indent="-239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6" marL="2155680" indent="-239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819520"/>
            <a:ext cx="56386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wmf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09480" y="2971800"/>
            <a:ext cx="6324840" cy="971640"/>
          </a:xfrm>
          <a:prstGeom prst="rect">
            <a:avLst/>
          </a:prstGeom>
        </p:spPr>
        <p:txBody>
          <a:bodyPr wrap="none" lIns="0" rIns="90000" tIns="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nagement Summary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/>
          <p:nvPr/>
        </p:nvSpPr>
        <p:spPr>
          <a:xfrm>
            <a:off x="560520" y="4254480"/>
            <a:ext cx="42602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e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4.10.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lestone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0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-PM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. Schmi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M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.-J.Frey, H-M. Mues-H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-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. Köhler, H. Böss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M-BA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. Ke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M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. Hirs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48720" y="1371600"/>
            <a:ext cx="609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01000" y="1905120"/>
            <a:ext cx="30492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001000" y="1905120"/>
            <a:ext cx="30492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001000" y="1447920"/>
            <a:ext cx="304920" cy="304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362320"/>
            <a:ext cx="30492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8280" y="25560"/>
            <a:ext cx="69213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duct Status Report Neo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35080" y="1317600"/>
            <a:ext cx="7194600" cy="21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380880" indent="-380880">
              <a:lnSpc>
                <a:spcPts val="2398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b5d"/>
                </a:solidFill>
                <a:latin typeface="Arial"/>
              </a:rPr>
              <a:t>A </a:t>
            </a:r>
            <a:r>
              <a:rPr b="1" lang="en-GB" sz="1800" spc="-1" strike="noStrike">
                <a:solidFill>
                  <a:srgbClr val="002b5d"/>
                </a:solidFill>
                <a:latin typeface="Arial"/>
              </a:rPr>
              <a:t>– Continue with Neo</a:t>
            </a:r>
            <a:br>
              <a:rPr sz="1800"/>
            </a:br>
            <a:r>
              <a:rPr b="1" lang="en-GB" sz="1800" spc="-1" strike="noStrike">
                <a:solidFill>
                  <a:srgbClr val="002b5d"/>
                </a:solidFill>
                <a:latin typeface="Arial"/>
              </a:rPr>
              <a:t>Not delayed within the mechanical process due to software</a:t>
            </a:r>
            <a:br>
              <a:rPr sz="1800"/>
            </a:br>
            <a:r>
              <a:rPr b="1" lang="en-GB" sz="1800" spc="-1" strike="noStrike">
                <a:solidFill>
                  <a:srgbClr val="002b5d"/>
                </a:solidFill>
                <a:latin typeface="Arial"/>
              </a:rPr>
              <a:t>Release budget for tooling when necessary (before M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b5d"/>
                </a:solidFill>
                <a:latin typeface="Arial"/>
              </a:rPr>
              <a:t>B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2b5d"/>
                </a:solidFill>
                <a:latin typeface="Arial"/>
              </a:rPr>
              <a:t>– Stop of the project N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3360" y="19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ecision op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08960" y="4622760"/>
            <a:ext cx="2934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8600" y="4076640"/>
            <a:ext cx="46735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We take the following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46000" y="4575240"/>
            <a:ext cx="38124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55760" y="4575240"/>
            <a:ext cx="38124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713680" y="4618080"/>
            <a:ext cx="2934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102200" y="4583160"/>
            <a:ext cx="380880" cy="2919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25920" y="4630680"/>
            <a:ext cx="24368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Present again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49400" y="3906720"/>
            <a:ext cx="921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50600" y="3200040"/>
            <a:ext cx="3213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24084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me schedule Ne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71680" y="1066320"/>
            <a:ext cx="7772400" cy="538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e to SX1 2 Month delay for NE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0 for SW unclear (target until End Sept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core team not fully staff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rnal companies (e.g Atelier) aren’t able to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 Neo due to SX1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act negotiations with Nokia are focusing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X1 not on Neo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Series 60 contract available for Neo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rdwar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0 for HW on 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Sep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4 for HW on 2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July 200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play 1.9“ on critical path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&gt; Only 30k are available end of Jul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193K are available end of Augu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20600" y="1152360"/>
            <a:ext cx="8642520" cy="49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b5d"/>
                </a:solidFill>
                <a:latin typeface="Arial"/>
                <a:ea typeface="Times New Roman"/>
              </a:rPr>
              <a:t>BOM developm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Start 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Kempinski-WS</a:t>
            </a:r>
            <a:r>
              <a:rPr b="1" lang="en-US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 u="sng">
                <a:solidFill>
                  <a:srgbClr val="002b5d"/>
                </a:solidFill>
                <a:uFillTx/>
                <a:latin typeface="Arial"/>
                <a:ea typeface="Times New Roman"/>
              </a:rPr>
              <a:t>145 EUR (Basis Yazo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Result of Landshut-WS </a:t>
            </a:r>
            <a:r>
              <a:rPr b="1" lang="en-GB" sz="1200" spc="-1" strike="noStrike">
                <a:solidFill>
                  <a:srgbClr val="002b5d"/>
                </a:solidFill>
                <a:latin typeface="Arial"/>
                <a:ea typeface="Times New Roman"/>
              </a:rPr>
              <a:t>(21.07-01.08.03)</a:t>
            </a:r>
            <a:br>
              <a:rPr sz="1600"/>
            </a:b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Neo design V3 is 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 u="sng">
                <a:solidFill>
                  <a:srgbClr val="002b5d"/>
                </a:solidFill>
                <a:uFillTx/>
                <a:latin typeface="Arial"/>
                <a:ea typeface="Times New Roman"/>
              </a:rPr>
              <a:t>162,00 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V3 includes:</a:t>
            </a:r>
            <a:br>
              <a:rPr sz="1600"/>
            </a:b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- amber keypad LED's (12er blo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- simple QWETRTY keypad (Foil Keypad)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- no QWERTY illumination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Current position </a:t>
            </a:r>
            <a:r>
              <a:rPr b="1" lang="en-GB" sz="1200" spc="-1" strike="noStrike">
                <a:solidFill>
                  <a:srgbClr val="002b5d"/>
                </a:solidFill>
                <a:latin typeface="Arial"/>
                <a:ea typeface="Times New Roman"/>
              </a:rPr>
              <a:t>(25.08.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no stacked EGOLD 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-  1,30 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QWERTY-keypad SL55 like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+ 5 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red QWERTY illumination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+ 1 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white keypad LED's (12er block)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+ 3 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-&gt;Neo BOM today: 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  </a:t>
            </a:r>
            <a:r>
              <a:rPr b="1" lang="en-GB" sz="1600" spc="-1" strike="noStrike" u="sng">
                <a:solidFill>
                  <a:srgbClr val="002b5d"/>
                </a:solidFill>
                <a:uFillTx/>
                <a:latin typeface="Arial"/>
                <a:ea typeface="Times New Roman"/>
              </a:rPr>
              <a:t>169,70 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19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o-BOM: History and stat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52280" y="5256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92200" y="2300400"/>
            <a:ext cx="770040" cy="275256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171880" y="2340000"/>
            <a:ext cx="769680" cy="271296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751200" y="1987560"/>
            <a:ext cx="770040" cy="306540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711920" y="1814400"/>
            <a:ext cx="770040" cy="323856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962440" y="1987560"/>
            <a:ext cx="769680" cy="352440"/>
          </a:xfrm>
          <a:prstGeom prst="rect">
            <a:avLst/>
          </a:prstGeom>
          <a:solidFill>
            <a:srgbClr val="fb012b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41760" y="1886040"/>
            <a:ext cx="770040" cy="101520"/>
          </a:xfrm>
          <a:prstGeom prst="rect">
            <a:avLst/>
          </a:prstGeom>
          <a:solidFill>
            <a:srgbClr val="fb012b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30880" y="1835280"/>
            <a:ext cx="770040" cy="50760"/>
          </a:xfrm>
          <a:prstGeom prst="rect">
            <a:avLst/>
          </a:prstGeom>
          <a:solidFill>
            <a:srgbClr val="fb012b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121440" y="1814400"/>
            <a:ext cx="770040" cy="20880"/>
          </a:xfrm>
          <a:prstGeom prst="rect">
            <a:avLst/>
          </a:prstGeom>
          <a:solidFill>
            <a:srgbClr val="fb012b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82760" y="2300400"/>
            <a:ext cx="770040" cy="39600"/>
          </a:xfrm>
          <a:prstGeom prst="rect">
            <a:avLst/>
          </a:pr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923160" y="1795320"/>
            <a:ext cx="770040" cy="19080"/>
          </a:xfrm>
          <a:prstGeom prst="rect">
            <a:avLst/>
          </a:pr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622440" y="5459400"/>
          <a:ext cx="7800840" cy="441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2440" y="5459400"/>
                    <a:ext cx="780084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"/>
          <p:cNvSpPr/>
          <p:nvPr/>
        </p:nvSpPr>
        <p:spPr>
          <a:xfrm>
            <a:off x="3551400" y="5883120"/>
            <a:ext cx="1190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Neo concept #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8800" y="5875200"/>
            <a:ext cx="120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Yazoo” Kem-pinsk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338960" y="587700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Neo actual desig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43280" y="5872320"/>
            <a:ext cx="120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Yazoo” Tar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66760" y="1163520"/>
            <a:ext cx="120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arget set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798640" y="1220760"/>
            <a:ext cx="11667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oncept #3 cost ad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54560" y="1214280"/>
            <a:ext cx="10094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Fugu Qw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210280" y="1214280"/>
            <a:ext cx="10094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White 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42160" y="1095840"/>
            <a:ext cx="101124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TC no stacked E-G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908680" y="1214280"/>
            <a:ext cx="1244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Qwerty 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30120" y="0"/>
            <a:ext cx="7239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o BOM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7010280" y="257040"/>
            <a:ext cx="327240" cy="657360"/>
            <a:chOff x="7010280" y="257040"/>
            <a:chExt cx="327240" cy="657360"/>
          </a:xfrm>
        </p:grpSpPr>
        <p:sp>
          <p:nvSpPr>
            <p:cNvPr id="287" name=""/>
            <p:cNvSpPr/>
            <p:nvPr/>
          </p:nvSpPr>
          <p:spPr>
            <a:xfrm>
              <a:off x="7010280" y="257040"/>
              <a:ext cx="327240" cy="657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10360" y="317520"/>
              <a:ext cx="13032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110360" y="522360"/>
              <a:ext cx="130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110360" y="725400"/>
              <a:ext cx="130320" cy="123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741240" y="2671920"/>
            <a:ext cx="4701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b5d"/>
                </a:solidFill>
                <a:latin typeface="Arial"/>
              </a:rPr>
              <a:t>1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903480" y="2671920"/>
            <a:ext cx="4701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b5d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878600" y="2671920"/>
            <a:ext cx="4701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b5d"/>
                </a:solidFill>
                <a:latin typeface="Arial"/>
              </a:rPr>
              <a:t>1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341440" y="2671920"/>
            <a:ext cx="4701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b5d"/>
                </a:solidFill>
                <a:latin typeface="Arial"/>
              </a:rPr>
              <a:t>1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343320" y="1322280"/>
            <a:ext cx="2720880" cy="465120"/>
          </a:xfrm>
          <a:custGeom>
            <a:avLst/>
            <a:gdLst>
              <a:gd name="textAreaLeft" fmla="*/ 0 w 2720880"/>
              <a:gd name="textAreaRight" fmla="*/ 2721240 w 2720880"/>
              <a:gd name="textAreaTop" fmla="*/ 0 h 465120"/>
              <a:gd name="textAreaBottom" fmla="*/ 465480 h 4651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68a4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2280" y="5256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4680" y="2458800"/>
            <a:ext cx="14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BIT: </a:t>
            </a:r>
            <a:r>
              <a:rPr b="1" lang="en-US" sz="1600" spc="-1" strike="noStrike">
                <a:solidFill>
                  <a:srgbClr val="fb012b"/>
                </a:solidFill>
                <a:latin typeface="Times New Roman"/>
              </a:rPr>
              <a:t>-33,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0200" y="1671480"/>
            <a:ext cx="1174680" cy="78264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286240" y="1671480"/>
            <a:ext cx="1175040" cy="120492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612200" y="1671480"/>
            <a:ext cx="1172880" cy="151632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44520" y="1322280"/>
            <a:ext cx="2176560" cy="387360"/>
          </a:xfrm>
          <a:custGeom>
            <a:avLst/>
            <a:gdLst>
              <a:gd name="textAreaLeft" fmla="*/ 0 w 2176560"/>
              <a:gd name="textAreaRight" fmla="*/ 2176920 w 217656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68a4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53160" y="1322280"/>
            <a:ext cx="2722680" cy="465120"/>
          </a:xfrm>
          <a:custGeom>
            <a:avLst/>
            <a:gdLst>
              <a:gd name="textAreaLeft" fmla="*/ 0 w 2722680"/>
              <a:gd name="textAreaRight" fmla="*/ 2723040 w 2722680"/>
              <a:gd name="textAreaTop" fmla="*/ 0 h 465120"/>
              <a:gd name="textAreaBottom" fmla="*/ 465480 h 4651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68a4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8720" y="1672200"/>
            <a:ext cx="150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Yazoo” Commitment Kempinsk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97880" y="1732680"/>
            <a:ext cx="1049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o actual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364000" y="1672200"/>
            <a:ext cx="1051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o actual desig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32520" y="2801520"/>
            <a:ext cx="14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BIT: </a:t>
            </a:r>
            <a:r>
              <a:rPr b="1" lang="en-US" sz="1600" spc="-1" strike="noStrike">
                <a:solidFill>
                  <a:srgbClr val="fb012b"/>
                </a:solidFill>
                <a:latin typeface="Times New Roman"/>
              </a:rPr>
              <a:t>-55,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464600" y="3112560"/>
            <a:ext cx="14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BIT: </a:t>
            </a:r>
            <a:r>
              <a:rPr b="1" lang="en-US" sz="1600" spc="-1" strike="noStrike">
                <a:solidFill>
                  <a:srgbClr val="fb012b"/>
                </a:solidFill>
                <a:latin typeface="Times New Roman"/>
              </a:rPr>
              <a:t>-71,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4680" y="1684440"/>
            <a:ext cx="8629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415200" y="1716480"/>
            <a:ext cx="120168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lay / TTM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X1 impact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87400" y="1725840"/>
            <a:ext cx="10890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sign concept 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-311040" y="14029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BIT: </a:t>
            </a:r>
            <a:r>
              <a:rPr b="1" lang="en-US" sz="1600" spc="-1" strike="noStrike">
                <a:solidFill>
                  <a:srgbClr val="fb012b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554040" y="3343320"/>
          <a:ext cx="8464680" cy="116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4040" y="3343320"/>
                    <a:ext cx="846468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3032280" y="1709640"/>
            <a:ext cx="1174680" cy="124452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110040" y="1710360"/>
            <a:ext cx="104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o concept #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76400" y="2879280"/>
            <a:ext cx="14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BIT: </a:t>
            </a:r>
            <a:r>
              <a:rPr b="1" lang="en-US" sz="1600" spc="-1" strike="noStrike">
                <a:solidFill>
                  <a:srgbClr val="fb012b"/>
                </a:solidFill>
                <a:latin typeface="Times New Roman"/>
              </a:rPr>
              <a:t>-59,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554040" y="4276800"/>
          <a:ext cx="8464680" cy="1165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4040" y="4276800"/>
                    <a:ext cx="8464680" cy="11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554040" y="5286240"/>
          <a:ext cx="8464680" cy="1167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4040" y="5286240"/>
                    <a:ext cx="8464680" cy="11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4121280" y="1814400"/>
            <a:ext cx="1089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eatur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cr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-1440" y="3733200"/>
            <a:ext cx="77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rot="5400000">
            <a:off x="-110880" y="4573800"/>
            <a:ext cx="99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olume in M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5400000">
            <a:off x="-2520" y="5475240"/>
            <a:ext cx="77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ice A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0120" y="0"/>
            <a:ext cx="7239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o EBIT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7010280" y="257040"/>
            <a:ext cx="327240" cy="657360"/>
            <a:chOff x="7010280" y="257040"/>
            <a:chExt cx="327240" cy="657360"/>
          </a:xfrm>
        </p:grpSpPr>
        <p:sp>
          <p:nvSpPr>
            <p:cNvPr id="327" name=""/>
            <p:cNvSpPr/>
            <p:nvPr/>
          </p:nvSpPr>
          <p:spPr>
            <a:xfrm>
              <a:off x="7010280" y="257040"/>
              <a:ext cx="327240" cy="657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110360" y="317520"/>
              <a:ext cx="13032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110360" y="522360"/>
              <a:ext cx="130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110360" y="725400"/>
              <a:ext cx="130320" cy="123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Product Status Neo 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5562720"/>
            <a:ext cx="174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1600200"/>
            <a:ext cx="2187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ing/Market  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2611440"/>
            <a:ext cx="174960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anc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3581280"/>
            <a:ext cx="174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4572000"/>
            <a:ext cx="174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33720" y="175248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85920" y="1801800"/>
            <a:ext cx="128520" cy="125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98680" y="18018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11440" y="18018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276720" y="2421000"/>
            <a:ext cx="4876560" cy="828360"/>
            <a:chOff x="3276720" y="2421000"/>
            <a:chExt cx="4876560" cy="828360"/>
          </a:xfrm>
        </p:grpSpPr>
        <p:sp>
          <p:nvSpPr>
            <p:cNvPr id="112" name=""/>
            <p:cNvSpPr/>
            <p:nvPr/>
          </p:nvSpPr>
          <p:spPr>
            <a:xfrm>
              <a:off x="3276720" y="2421000"/>
              <a:ext cx="4876560" cy="82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312720" y="2421000"/>
              <a:ext cx="48258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usiness case negativ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3327480" y="4702320"/>
            <a:ext cx="48765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266688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85920" y="2716200"/>
            <a:ext cx="128520" cy="125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98680" y="27162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11440" y="27162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33720" y="365760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85920" y="370692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98680" y="370692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11440" y="3706920"/>
            <a:ext cx="128520" cy="125280"/>
          </a:xfrm>
          <a:prstGeom prst="ellipse">
            <a:avLst/>
          </a:prstGeom>
          <a:solidFill>
            <a:srgbClr val="0ac90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33720" y="464832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85920" y="4697280"/>
            <a:ext cx="128520" cy="12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98680" y="4697280"/>
            <a:ext cx="128520" cy="12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11440" y="4697280"/>
            <a:ext cx="128520" cy="12564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563868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85920" y="5688000"/>
            <a:ext cx="128520" cy="12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98680" y="56880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11440" y="5688000"/>
            <a:ext cx="128520" cy="12528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276720" y="1447920"/>
            <a:ext cx="4876560" cy="828360"/>
            <a:chOff x="3276720" y="1447920"/>
            <a:chExt cx="4876560" cy="828360"/>
          </a:xfrm>
        </p:grpSpPr>
        <p:sp>
          <p:nvSpPr>
            <p:cNvPr id="132" name=""/>
            <p:cNvSpPr/>
            <p:nvPr/>
          </p:nvSpPr>
          <p:spPr>
            <a:xfrm>
              <a:off x="3276720" y="1447920"/>
              <a:ext cx="4876560" cy="82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12720" y="1447920"/>
              <a:ext cx="48258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ctual S4 date end of August (2 month delay) due to SX1 impact (Blocking of internal and external software recourses)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276720" y="3395520"/>
            <a:ext cx="4876560" cy="828360"/>
            <a:chOff x="3276720" y="3395520"/>
            <a:chExt cx="4876560" cy="828360"/>
          </a:xfrm>
        </p:grpSpPr>
        <p:sp>
          <p:nvSpPr>
            <p:cNvPr id="135" name=""/>
            <p:cNvSpPr/>
            <p:nvPr/>
          </p:nvSpPr>
          <p:spPr>
            <a:xfrm>
              <a:off x="3276720" y="3395520"/>
              <a:ext cx="4876560" cy="82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12720" y="3395520"/>
              <a:ext cx="48258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Key features: QWERTY-Keyboard; </a:t>
              </a:r>
              <a:r>
                <a:rPr b="0" lang="en-GB" sz="1600" spc="-1" strike="noStrike">
                  <a:solidFill>
                    <a:srgbClr val="ff0000"/>
                  </a:solidFill>
                  <a:latin typeface="Arial"/>
                </a:rPr>
                <a:t>A-GPS (?)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; 1.3 MPix Camera; Open 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276720" y="4368960"/>
            <a:ext cx="4876560" cy="828000"/>
            <a:chOff x="3276720" y="4368960"/>
            <a:chExt cx="4876560" cy="828000"/>
          </a:xfrm>
        </p:grpSpPr>
        <p:sp>
          <p:nvSpPr>
            <p:cNvPr id="138" name=""/>
            <p:cNvSpPr/>
            <p:nvPr/>
          </p:nvSpPr>
          <p:spPr>
            <a:xfrm>
              <a:off x="3276720" y="4368960"/>
              <a:ext cx="4876560" cy="828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12720" y="4368960"/>
              <a:ext cx="4825800" cy="8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 RF Connector due to design constrai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276720" y="5343480"/>
            <a:ext cx="4876560" cy="828360"/>
            <a:chOff x="3276720" y="5343480"/>
            <a:chExt cx="4876560" cy="828360"/>
          </a:xfrm>
        </p:grpSpPr>
        <p:sp>
          <p:nvSpPr>
            <p:cNvPr id="141" name=""/>
            <p:cNvSpPr/>
            <p:nvPr/>
          </p:nvSpPr>
          <p:spPr>
            <a:xfrm>
              <a:off x="3276720" y="5343480"/>
              <a:ext cx="4876560" cy="82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12720" y="5343480"/>
              <a:ext cx="48258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124080" y="1066680"/>
            <a:ext cx="541044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atus and major changes (regarding last milesto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507520" y="6248520"/>
            <a:ext cx="6760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alw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33520" y="1244520"/>
            <a:ext cx="3504960" cy="1041480"/>
          </a:xfrm>
          <a:prstGeom prst="roundRect">
            <a:avLst>
              <a:gd name="adj" fmla="val 6097"/>
            </a:avLst>
          </a:prstGeom>
          <a:solidFill>
            <a:srgbClr val="ca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5440" y="1255680"/>
            <a:ext cx="33670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542880"/>
                <a:tab algn="l" pos="666720"/>
                <a:tab algn="l" pos="1612800"/>
                <a:tab algn="l" pos="260352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sition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666720"/>
                <a:tab algn="l" pos="1612800"/>
                <a:tab algn="l" pos="260352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/Reference-Class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X-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666720"/>
                <a:tab algn="l" pos="1612800"/>
                <a:tab algn="l" pos="260352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Target Group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     Cosmopolitan Networ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666720"/>
                <a:tab algn="l" pos="1612800"/>
                <a:tab algn="l" pos="260352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le &gt;&gt; Female, 25-40 years, high income,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professional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&amp; private u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3520" y="4719600"/>
            <a:ext cx="6642000" cy="1757520"/>
            <a:chOff x="533520" y="4719600"/>
            <a:chExt cx="6642000" cy="1757520"/>
          </a:xfrm>
        </p:grpSpPr>
        <p:sp>
          <p:nvSpPr>
            <p:cNvPr id="148" name=""/>
            <p:cNvSpPr/>
            <p:nvPr/>
          </p:nvSpPr>
          <p:spPr>
            <a:xfrm>
              <a:off x="533520" y="5004000"/>
              <a:ext cx="6642000" cy="1473120"/>
            </a:xfrm>
            <a:prstGeom prst="roundRect">
              <a:avLst>
                <a:gd name="adj" fmla="val 5282"/>
              </a:avLst>
            </a:prstGeom>
            <a:solidFill>
              <a:srgbClr val="cad9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8040" y="5069160"/>
              <a:ext cx="33624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224"/>
                </a:spcBef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06960" y="5069160"/>
              <a:ext cx="244152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275"/>
                </a:spcBef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08680" y="5004000"/>
              <a:ext cx="0" cy="147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8040" y="4719600"/>
              <a:ext cx="1836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596880" y="5046840"/>
            <a:ext cx="7121520" cy="1401480"/>
            <a:chOff x="596880" y="5046840"/>
            <a:chExt cx="7121520" cy="1401480"/>
          </a:xfrm>
        </p:grpSpPr>
        <p:sp>
          <p:nvSpPr>
            <p:cNvPr id="154" name=""/>
            <p:cNvSpPr/>
            <p:nvPr/>
          </p:nvSpPr>
          <p:spPr>
            <a:xfrm>
              <a:off x="596880" y="5046840"/>
              <a:ext cx="3527280" cy="14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fferentiation to MP products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Arial"/>
                </a:rPr>
                <a:t>Product / design concept (messaging device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300" spc="-1" strike="noStrike">
                  <a:solidFill>
                    <a:srgbClr val="ff0000"/>
                  </a:solidFill>
                  <a:latin typeface="Arial"/>
                </a:rPr>
                <a:t>A-GPS variant (?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MC card slo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pen OS (Series 60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de-DE" sz="1300" spc="-1" strike="noStrike">
                  <a:solidFill>
                    <a:srgbClr val="ff0000"/>
                  </a:solidFill>
                  <a:latin typeface="Arial"/>
                </a:rPr>
                <a:t>MP3 Player (tbd)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91120" y="5046840"/>
              <a:ext cx="3527280" cy="10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fferentiation to Competition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Arial"/>
                </a:rPr>
                <a:t>Product / design concept </a:t>
              </a:r>
              <a:br>
                <a:rPr sz="1300"/>
              </a:br>
              <a:r>
                <a:rPr b="0" lang="de-DE" sz="1300" spc="-1" strike="noStrike">
                  <a:solidFill>
                    <a:srgbClr val="000000"/>
                  </a:solidFill>
                  <a:latin typeface="Arial"/>
                </a:rPr>
                <a:t>(messaging device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de-DE" sz="1300" spc="-1" strike="noStrike">
                  <a:solidFill>
                    <a:srgbClr val="ff0000"/>
                  </a:solidFill>
                  <a:latin typeface="Arial"/>
                </a:rPr>
                <a:t>MP3 Player (tbd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300" spc="-1" strike="noStrike">
                  <a:solidFill>
                    <a:srgbClr val="ff0000"/>
                  </a:solidFill>
                  <a:latin typeface="Arial"/>
                </a:rPr>
                <a:t>A-GPS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 variant &amp; </a:t>
              </a:r>
              <a:r>
                <a:rPr b="0" lang="de-DE" sz="1400" spc="-1" strike="noStrike">
                  <a:solidFill>
                    <a:srgbClr val="ff0000"/>
                  </a:solidFill>
                  <a:latin typeface="Arial"/>
                </a:rPr>
                <a:t>W-LAN o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114800" y="1244520"/>
            <a:ext cx="3443400" cy="1041480"/>
            <a:chOff x="4114800" y="1244520"/>
            <a:chExt cx="3443400" cy="1041480"/>
          </a:xfrm>
        </p:grpSpPr>
        <p:sp>
          <p:nvSpPr>
            <p:cNvPr id="157" name=""/>
            <p:cNvSpPr/>
            <p:nvPr/>
          </p:nvSpPr>
          <p:spPr>
            <a:xfrm>
              <a:off x="4114800" y="1244520"/>
              <a:ext cx="3048120" cy="1041480"/>
            </a:xfrm>
            <a:prstGeom prst="roundRect">
              <a:avLst>
                <a:gd name="adj" fmla="val 6097"/>
              </a:avLst>
            </a:prstGeom>
            <a:solidFill>
              <a:srgbClr val="cad9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91120" y="1295640"/>
              <a:ext cx="336708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usiness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3 09/04, LC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 month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olume over LC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5 Mi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BIT p.u. Target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x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114800" y="2414520"/>
            <a:ext cx="3051000" cy="1230480"/>
          </a:xfrm>
          <a:prstGeom prst="roundRect">
            <a:avLst>
              <a:gd name="adj" fmla="val 4731"/>
            </a:avLst>
          </a:prstGeom>
          <a:solidFill>
            <a:srgbClr val="ca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645000"/>
            <a:ext cx="3051000" cy="1230120"/>
          </a:xfrm>
          <a:prstGeom prst="roundRect">
            <a:avLst>
              <a:gd name="adj" fmla="val 4731"/>
            </a:avLst>
          </a:prstGeom>
          <a:solidFill>
            <a:srgbClr val="ca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414520"/>
            <a:ext cx="3708360" cy="2449440"/>
          </a:xfrm>
          <a:custGeom>
            <a:avLst/>
            <a:gdLst>
              <a:gd name="textAreaLeft" fmla="*/ 0 w 3708360"/>
              <a:gd name="textAreaRight" fmla="*/ 3708720 w 3708360"/>
              <a:gd name="textAreaTop" fmla="*/ 0 h 2449440"/>
              <a:gd name="textAreaBottom" fmla="*/ 2449440 h 24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79" y="0"/>
                </a:lnTo>
                <a:lnTo>
                  <a:pt x="21600" y="10800"/>
                </a:lnTo>
                <a:lnTo>
                  <a:pt x="192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a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67080" y="2414520"/>
            <a:ext cx="281952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end user benefi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Innovative &amp; elegant design combining functionality and esthetic in a surprisung wa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ast &amp; easy text inpu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igh quality photo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6880" y="2428920"/>
            <a:ext cx="3213000" cy="23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Key characteristics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WERTY Keypa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pen OS (Series 60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1,3 mega pixel camera with attachable </a:t>
            </a:r>
            <a:br>
              <a:rPr sz="1300"/>
            </a:b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    flash (accessory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300" spc="-1" strike="noStrike">
                <a:solidFill>
                  <a:srgbClr val="ff0000"/>
                </a:solidFill>
                <a:latin typeface="Arial"/>
              </a:rPr>
              <a:t>MP3 player (tbd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External memory (MMC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0000"/>
                </a:solidFill>
                <a:latin typeface="Arial"/>
              </a:rPr>
              <a:t>A-GPS variant (?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Key characteristics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messaging device offering an innovative design merging phone &amp; keyp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67080" y="3648240"/>
            <a:ext cx="274320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operator benefi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perator specific MMI &amp; hardke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ull range of messaging services (SMS, MMS, e-mail, IM, PTT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300" spc="-1" strike="noStrike">
                <a:solidFill>
                  <a:srgbClr val="ff0000"/>
                </a:solidFill>
                <a:latin typeface="Arial"/>
              </a:rPr>
              <a:t>Assisted GPS variant enabling location-base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Product Profile Neo 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7585200" y="2365200"/>
            <a:ext cx="1393560" cy="2643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291960" y="1092240"/>
          <a:ext cx="8115480" cy="5765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960" y="1092240"/>
                    <a:ext cx="811548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 flipV="1">
            <a:off x="825480" y="1262160"/>
            <a:ext cx="7162920" cy="494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TA Project Neo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10280" y="257040"/>
            <a:ext cx="327240" cy="65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110360" y="317520"/>
            <a:ext cx="130320" cy="123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10360" y="522360"/>
            <a:ext cx="130320" cy="122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110360" y="725400"/>
            <a:ext cx="130320" cy="123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53000" y="3743280"/>
            <a:ext cx="921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1960" y="977760"/>
            <a:ext cx="10954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ime plan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all Project Status N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10280" y="257040"/>
            <a:ext cx="327240" cy="65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10360" y="317520"/>
            <a:ext cx="130320" cy="123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10360" y="522360"/>
            <a:ext cx="130320" cy="122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110360" y="725400"/>
            <a:ext cx="130320" cy="123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53000" y="3743280"/>
            <a:ext cx="921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2120" y="1050840"/>
            <a:ext cx="7194600" cy="55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380880" indent="-380880">
              <a:lnSpc>
                <a:spcPts val="2398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4b6a"/>
                </a:solidFill>
                <a:uFillTx/>
                <a:latin typeface="Arial"/>
              </a:rPr>
              <a:t>Softwar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buClr>
                <a:srgbClr val="004b6a"/>
              </a:buClr>
              <a:buFont typeface="Arial"/>
              <a:buChar char="•"/>
              <a:tabLst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4b6a"/>
                </a:solidFill>
                <a:latin typeface="Arial"/>
              </a:rPr>
              <a:t>Software only partly progress (Predevelopment S60 V2.0). Only very little progress in other areas (System architecture, integration, planning, SWI, …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buClr>
                <a:srgbClr val="004b6a"/>
              </a:buClr>
              <a:buFont typeface="Arial"/>
              <a:buChar char="•"/>
              <a:tabLst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4b6a"/>
                </a:solidFill>
                <a:latin typeface="Arial"/>
              </a:rPr>
              <a:t>Therefore S0-Status for SW not reachable during the next weeks due to resource allocation for S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buClr>
                <a:srgbClr val="004b6a"/>
              </a:buClr>
              <a:buFont typeface="Arial"/>
              <a:buChar char="•"/>
              <a:tabLst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4b6a"/>
                </a:solidFill>
                <a:uFillTx/>
                <a:latin typeface="Arial"/>
              </a:rPr>
              <a:t>Hardwar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buClr>
                <a:srgbClr val="004b6a"/>
              </a:buClr>
              <a:buFont typeface="Arial"/>
              <a:buChar char="•"/>
              <a:tabLst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4b6a"/>
                </a:solidFill>
                <a:latin typeface="Arial"/>
              </a:rPr>
              <a:t>S0 Status reached 1</a:t>
            </a:r>
            <a:r>
              <a:rPr b="0" lang="en-GB" sz="1400" spc="-1" strike="noStrike" baseline="30000">
                <a:solidFill>
                  <a:srgbClr val="004b6a"/>
                </a:solidFill>
                <a:latin typeface="Arial"/>
              </a:rPr>
              <a:t>st</a:t>
            </a:r>
            <a:r>
              <a:rPr b="0" lang="en-GB" sz="1400" spc="-1" strike="noStrike">
                <a:solidFill>
                  <a:srgbClr val="004b6a"/>
                </a:solidFill>
                <a:latin typeface="Arial"/>
              </a:rPr>
              <a:t> of October. We now are facing the situation of upcoming investments for tooling and prototy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buClr>
                <a:srgbClr val="004b6a"/>
              </a:buClr>
              <a:buFont typeface="Arial"/>
              <a:buChar char="•"/>
              <a:tabLst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4b6a"/>
                </a:solidFill>
                <a:uFillTx/>
                <a:latin typeface="Arial"/>
              </a:rPr>
              <a:t>Business Cas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buClr>
                <a:srgbClr val="004b6a"/>
              </a:buClr>
              <a:buFont typeface="Arial"/>
              <a:buChar char="•"/>
              <a:tabLst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4b6a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4b6a"/>
                </a:solidFill>
                <a:latin typeface="Arial"/>
              </a:rPr>
              <a:t>Still negative and further negative impact due to T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buClr>
                <a:srgbClr val="004b6a"/>
              </a:buClr>
              <a:buFont typeface="Arial"/>
              <a:buChar char="•"/>
              <a:tabLst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4b6a"/>
                </a:solidFill>
                <a:uFillTx/>
                <a:latin typeface="Arial"/>
              </a:rPr>
              <a:t>Action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buClr>
                <a:srgbClr val="004b6a"/>
              </a:buClr>
              <a:buFont typeface="Arial"/>
              <a:buChar char="•"/>
              <a:tabLst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4b6a"/>
                </a:solidFill>
                <a:latin typeface="Arial"/>
              </a:rPr>
              <a:t>Investigation of different scenarios based on SX1 V1.2 Software are not sufficient for TTM and business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buClr>
                <a:srgbClr val="004b6a"/>
              </a:buClr>
              <a:buFont typeface="Arial"/>
              <a:buChar char="•"/>
              <a:tabLst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4b6a"/>
                </a:solidFill>
                <a:latin typeface="Arial"/>
              </a:rPr>
              <a:t>Scenarios based on Penelope could lead to a sufficient solution – further investigation necessary. 1</a:t>
            </a:r>
            <a:r>
              <a:rPr b="0" lang="en-GB" sz="1400" spc="-1" strike="noStrike" baseline="30000">
                <a:solidFill>
                  <a:srgbClr val="004b6a"/>
                </a:solidFill>
                <a:latin typeface="Arial"/>
              </a:rPr>
              <a:t>st</a:t>
            </a:r>
            <a:r>
              <a:rPr b="0" lang="en-GB" sz="1400" spc="-1" strike="noStrike">
                <a:solidFill>
                  <a:srgbClr val="004b6a"/>
                </a:solidFill>
                <a:latin typeface="Arial"/>
              </a:rPr>
              <a:t> estimation TTM -&gt; launch end Septe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76360" y="1676520"/>
            <a:ext cx="3614760" cy="304776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1677960"/>
            <a:ext cx="3733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st per device: BOM +Conv. Cost + Lic. Fee = HK (EUR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6360" y="4800600"/>
            <a:ext cx="3619440" cy="129528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08200" y="4805280"/>
            <a:ext cx="1263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Quantities (Mi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7720" y="5216400"/>
            <a:ext cx="7621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nits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over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ifecyc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002200" y="4186080"/>
            <a:ext cx="3254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46640" y="6351480"/>
            <a:ext cx="177840" cy="166680"/>
          </a:xfrm>
          <a:prstGeom prst="rect">
            <a:avLst/>
          </a:prstGeom>
          <a:solidFill>
            <a:srgbClr val="ffd14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33840" y="6324480"/>
            <a:ext cx="6955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14760" y="6095880"/>
            <a:ext cx="5684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Actu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48440" y="6143760"/>
            <a:ext cx="1533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Major Change compared to last re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46640" y="6135840"/>
            <a:ext cx="177840" cy="1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076720" y="1676520"/>
            <a:ext cx="3610080" cy="213336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83120" y="1677960"/>
            <a:ext cx="1970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List price (EUR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05520" y="2151000"/>
            <a:ext cx="685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aunch Pr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3048120"/>
            <a:ext cx="9144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hase out pr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67360" y="4800600"/>
            <a:ext cx="3619440" cy="129528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199200" y="4805280"/>
            <a:ext cx="1263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B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16440" y="5313240"/>
            <a:ext cx="12747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% of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turn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219320" y="5105520"/>
          <a:ext cx="2921040" cy="93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5105520"/>
                    <a:ext cx="292104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5715000" y="1905120"/>
          <a:ext cx="2921040" cy="930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1905120"/>
                    <a:ext cx="292104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5716440" y="2808360"/>
          <a:ext cx="2921040" cy="930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16440" y="2808360"/>
                    <a:ext cx="292104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5715000" y="5105520"/>
          <a:ext cx="2921040" cy="930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715000" y="5105520"/>
                    <a:ext cx="292104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1012680" y="5427720"/>
            <a:ext cx="533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12680" y="5235480"/>
            <a:ext cx="533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630360" y="1828800"/>
          <a:ext cx="3512880" cy="2844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30360" y="1828800"/>
                    <a:ext cx="3512880" cy="28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3962520" y="914400"/>
            <a:ext cx="30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68800" y="60958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926120" y="4724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439720" y="33526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010280" y="257040"/>
            <a:ext cx="327240" cy="65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110360" y="317520"/>
            <a:ext cx="130320" cy="123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110360" y="522360"/>
            <a:ext cx="130320" cy="122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110360" y="725400"/>
            <a:ext cx="130320" cy="123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Financial Status Neo 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9680600">
            <a:off x="6120" y="2296440"/>
            <a:ext cx="725184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0000"/>
                </a:solidFill>
                <a:latin typeface="Arial"/>
              </a:rPr>
              <a:t>To be updated for N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52280" y="5256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0" y="1192320"/>
          <a:ext cx="6629400" cy="3328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92320"/>
                    <a:ext cx="6629400" cy="33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685800" y="5181480"/>
          <a:ext cx="6324480" cy="12668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" y="5181480"/>
                    <a:ext cx="6324480" cy="12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6553080" y="1295280"/>
            <a:ext cx="2590920" cy="11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Commen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counts: E981-0085, E982-0089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984-04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anning Status: 28.08.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4830840"/>
            <a:ext cx="16761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st overview until M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9680600">
            <a:off x="-324000" y="2296800"/>
            <a:ext cx="725148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0000"/>
                </a:solidFill>
                <a:latin typeface="Arial"/>
              </a:rPr>
              <a:t>To be updated for N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R&amp;D Spending Neo 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Risks and Actions Neo (1)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10280" y="257040"/>
            <a:ext cx="327240" cy="65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10360" y="317520"/>
            <a:ext cx="130320" cy="123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10360" y="522360"/>
            <a:ext cx="130320" cy="122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110360" y="725400"/>
            <a:ext cx="130320" cy="123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44600" y="1136520"/>
          <a:ext cx="8180280" cy="5332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4600" y="1136520"/>
                    <a:ext cx="8180280" cy="533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Risks and Actions Neo (2)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010280" y="257040"/>
            <a:ext cx="327240" cy="65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110360" y="317520"/>
            <a:ext cx="130320" cy="123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110360" y="522360"/>
            <a:ext cx="130320" cy="122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110360" y="725400"/>
            <a:ext cx="130320" cy="123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19040" y="1357200"/>
          <a:ext cx="8236080" cy="2884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040" y="1357200"/>
                    <a:ext cx="8236080" cy="28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2T13:52:17Z</dcterms:created>
  <dc:creator>Mues-Hane</dc:creator>
  <dc:description/>
  <dc:language>en-US</dc:language>
  <cp:lastModifiedBy>Jürgen Schmitz</cp:lastModifiedBy>
  <cp:lastPrinted>2002-11-05T09:45:05Z</cp:lastPrinted>
  <dcterms:modified xsi:type="dcterms:W3CDTF">2003-10-24T09:01:18Z</dcterms:modified>
  <cp:revision>531</cp:revision>
  <dc:subject/>
  <dc:title>Template Project Status Review</dc:title>
</cp:coreProperties>
</file>